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0C7-88D4-41DF-B0EA-6CA049F7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C44-60FA-4310-8AF6-5312B68F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1A9-3B44-469E-ABB8-00C2C369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400-9444-4B02-AC97-68D63374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303A-FC17-43E4-B04A-45BBEACF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29E2-B46E-4105-B9FC-9AC353BB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3C6A-CA90-4FF0-93D7-0EA1BFDE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D2D9-928C-4592-8B14-42870486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CF21-D7BE-47B9-BF85-2483AEB9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2797-DE23-4725-97DE-F1AF983F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C0F0-EF9C-4FE8-928E-F27D5646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9A0-68C3-4201-8506-4B8F43AA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19BA-2BB9-4F39-A6B8-55FF3485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1B63-E289-4D5C-8A50-FCB51E0C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E207-11E9-43F9-8F19-1FF5A25B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3917-07D7-42E7-B147-2850316F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8071-6F8D-45D6-91AC-0FB8DEA2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286-AD81-4638-B0B6-2F47D70B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ABE-BE27-4275-8CBE-E0337852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66E-498D-4736-9A63-5899AFCB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C0D-4BAD-4DFD-9998-A2828CAC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B91-497A-49BB-A547-CBCB804B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3F8-DAE6-4B62-B4B4-57457884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9AC-D243-4D1D-A491-7F6FF815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CA69-3A8E-462A-97D4-56DC15435CED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E0D3-0673-4544-9C4D-1BD89541B9F0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000000"/>
                </a:solidFill>
                <a:latin typeface="Elephant"/>
              </a:rPr>
              <a:t>- </a:t>
            </a:r>
            <a:r>
              <a:rPr b="1" i="1" lang="en-US" sz="4400" spc="-1" strike="noStrike">
                <a:solidFill>
                  <a:srgbClr val="000000"/>
                </a:solidFill>
                <a:latin typeface="Elephant"/>
              </a:rPr>
              <a:t>CARTEA</a:t>
            </a:r>
            <a:r>
              <a:rPr b="1" i="1" lang="ro-RO" sz="4400" spc="-1" strike="noStrike">
                <a:solidFill>
                  <a:srgbClr val="000000"/>
                </a:solidFill>
                <a:latin typeface="Elephant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58920" y="5229360"/>
            <a:ext cx="1468440" cy="1628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1770120" cy="158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628640" cy="1862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093080" y="4941720"/>
            <a:ext cx="1819080" cy="174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140360" y="0"/>
            <a:ext cx="17874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IMPORTAN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Cartea ne ajută să cunoaştem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-nume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-date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-fapte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-evenimente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-locuri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-personalităţi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610080" cy="3454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380360" y="404640"/>
            <a:ext cx="1544400" cy="19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Exerciţ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12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1. Ordonează cuvintele pentru a obţine o propziţie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artea,cel,este,bun, mai,priete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19640" y="198072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2. Bifează care sunt datoriile şcolarilor faţă de cărţ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pastreze cu grijă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citescă cu atenţie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îndoaie paginile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scrie cu creionul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rupă foile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păstreze în bibliotecă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învelească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murdărească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1779480" cy="155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92360" y="4149720"/>
            <a:ext cx="2950920" cy="2532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140360" y="404640"/>
            <a:ext cx="178272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Completeaz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Pentru mine cartea este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un obiect necesar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un sfătuitor tainic şi înţelept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...............................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................................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................................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1413000" cy="144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3373200" cy="3438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219640" y="907920"/>
            <a:ext cx="1508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GHICITOR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Are foi şi nu e po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Îţi vorbeşte ca un o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Şi cu cât o foloseşt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Tot mai mult o îndrăgeşti</a:t>
            </a:r>
            <a:r>
              <a:rPr b="0" lang="ro-RO" sz="3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Câmpu-i alb,  oile-s neg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Cin’ le vede, nu le crede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Cin’ le paşte, le cunoaşt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67000" cy="1830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492360" y="5229360"/>
            <a:ext cx="183996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607160" y="4724280"/>
            <a:ext cx="153684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PROVER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Ai carte ,ai parte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Cine ştie carte are patru ochi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Cartea este o comoară de învăţături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Cartea este cea mai mare avuţie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Cartea nu foloseşte decât celui ce înţelege ce stă scris în ea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Citind, trebuie să faci efortul să înţelegi ceea ce citeşti şi să reţii ceea ce înţelegi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5373720"/>
            <a:ext cx="1846080" cy="129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2808360" cy="2504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47640" y="5877000"/>
            <a:ext cx="4824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Elephant"/>
              </a:rPr>
              <a:t>Cartea</a:t>
            </a:r>
            <a:br>
              <a:rPr sz="4000"/>
            </a:br>
            <a:r>
              <a:rPr b="0" lang="ro-RO" sz="32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ro-RO" sz="32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ro-RO" sz="3200" spc="-1" strike="noStrike">
                <a:solidFill>
                  <a:srgbClr val="000000"/>
                </a:solidFill>
                <a:latin typeface="Elephant"/>
              </a:rPr>
              <a:t> 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Elephant"/>
              </a:rPr>
              <a:t>de Constantin Drago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O carte aleas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E ca o cas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u multe ramur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Păsări pe ramuri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O carte rar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E o comoară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ine-o găseş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e-mbogăţeşt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O carte este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a o poves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ine o şti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O povesteş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ine-o ascultă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Acela creşte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ine-o citeşte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ine-o cinsteş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e-nnemureş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u ome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u veşnicia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1709640" cy="1598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96360" y="1916280"/>
            <a:ext cx="1547640" cy="3973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635280" y="4437000"/>
            <a:ext cx="144324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564000" y="1557360"/>
            <a:ext cx="1555560" cy="1812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7812000" y="260280"/>
            <a:ext cx="1079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Elephant"/>
              </a:rPr>
              <a:t>Glumă: </a:t>
            </a:r>
            <a:r>
              <a:rPr b="0" lang="ro-RO" sz="3200" spc="-1" strike="noStrike">
                <a:solidFill>
                  <a:srgbClr val="000000"/>
                </a:solidFill>
                <a:latin typeface="Elephant"/>
              </a:rPr>
              <a:t>Ţăranul şi ochelarii de ci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Un om a auzit pe altul spunând că nu poate să citescă pentru că şi-a uitat ochelarii acasă.El căscă ochii mari şi pricepu că e de ajuns să ai ochelari ca să poţi citi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Şi omul a plecat la oraş, a intrat într-un magazin şi a cerut “ochelari pentru citit”.Dar cu nici un fel de ochelari nu şi-a putut îndeplini gândul.După ce răvăşi jumătate de prăvălie, negustorul îl întrebă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- Dar, omule, ştii să citeşti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- Dacă ştiam să citesc, mai veneam eu la dumnevoatră să cer ochelari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740720" y="4365720"/>
            <a:ext cx="1187280" cy="1128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1108080" cy="103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56360" y="5516640"/>
            <a:ext cx="1584360" cy="13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332000" y="5805360"/>
            <a:ext cx="1511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7:27:44Z</dcterms:created>
  <dc:creator>TASE</dc:creator>
  <dc:description/>
  <dc:language>en-US</dc:language>
  <cp:lastModifiedBy>IULIA</cp:lastModifiedBy>
  <dcterms:modified xsi:type="dcterms:W3CDTF">2010-01-14T15:51:35Z</dcterms:modified>
  <cp:revision>4</cp:revision>
  <dc:subject/>
  <dc:title>-CARTEA-</dc:title>
</cp:coreProperties>
</file>